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32404050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142720" y="685440"/>
            <a:ext cx="257004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AF194D-E7EC-4E24-908F-DC6116856F5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E40FF2-5F97-4732-AA25-98A8F5CCB36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BB60-24F2-4E8C-98A2-AE1F8398C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CA6B-9137-4BBE-877C-E527B621E34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5267-3AA7-4A8D-AD31-D18B1410E0B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FCE0-1D73-41FD-BB60-41D7A72595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015A-F798-441D-999B-6903790D1E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7CBB-6F29-4DA2-A157-549CAFBBA6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0D2F-D36B-45E3-B4C6-A6A4E70752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C0E3-8540-42CA-B502-8ADB6C3647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DBD6-1561-4E6E-A3F2-7E866BCD15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0A96-233A-4E6C-89F9-EF7DA952B5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4C2C-B65B-48B9-8872-D9E4C68E81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91254-A440-4C3C-9CCD-FFA634A2C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691C-E260-4B71-B6AD-212141EF18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CF3D7-0410-4634-9578-64B3DA4F7B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9111C-3C03-4ECC-A0EF-69E8C9D5A4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FC04E-371A-4BA9-AE90-4676B02563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64EDF-C7B8-4215-A2DA-EB71160EFB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321CA-7654-4263-A906-C1E8E07B1B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9CD9C-7181-4045-B0D6-6EC2AA9EA90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1D5EC-B61C-41C8-8C85-7D08CADF84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B1193-21A3-4AE0-B4E1-9EBBEFB554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3BF80-AA8E-49D9-AA1C-B4E584981F5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4E287-604A-42C7-97F6-CA02C9B77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FADF-BA90-4AAF-83A8-932F5DACA8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7E3EA-6973-4861-9E19-5028368B58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1EB5E-8F1A-4DDD-90DC-F5F02A42E9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18FD2-FD25-4FEB-B4B2-43E702A18F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E228B-DE92-489E-A39F-E4293AD2FC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88ACD-FD52-449A-96AC-6D3A73C8CC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54D2F-E1EF-4754-A853-A3CB5183C81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442DB-51B9-4061-B4ED-AC28703225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9741D-E1C8-42EB-955D-18B098EA7D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425C1-33F5-4E41-B5B0-A819D57559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8FE73-A7F9-45B1-B2AC-E2A3998E3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DD68-7DF5-440A-B6A0-BBD966CCFBA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36F8C-5A8B-4DCC-A8A9-D2BFF2F033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57165-CDC5-4FD2-8B2E-98D850D7E5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DA4A9-3C39-440D-8BBB-FB230E4C66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7A7E-A8EE-4DF6-BCC7-A2C84F1F71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15A7-07D9-4817-9C72-805BA58403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6F6E-2D6C-42FC-B999-8C6FF79D4F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787D-1176-4F96-959D-127ACAC50E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BA84-86ED-4E99-BAAB-DAC18D6133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56A9-9953-4C65-8B20-16BC872CC1E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1417-EEC3-453B-A18D-B67E05B935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F12A-4DAD-4F8B-8474-FF91CBE172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DA73-8A86-481B-BE8C-A9F837E40F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8B0E-E881-440A-B10B-1D0CDD7649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7EFE-4B81-4718-90B5-531E4E0E209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608B-5476-4B69-B580-3CA8732951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92CF-7D97-4549-B486-843DD446D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C6EF-B879-4E00-A1D5-B0564F8A4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81FF-8734-4D5B-AD6E-EFB63D9B5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3DE1-5322-45CB-8C44-A12D3183CF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5A69-A0C0-4154-B1EC-3982DB2B0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CA8C-02F7-4C21-A95B-F30E3599FF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6B82-19F1-40B0-811D-A7D3892C5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CEE8-85CB-465B-8830-0387D3B24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975A-4972-4B2A-AAB0-6E5F395DD1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1FC5-87C0-4552-8C68-A6BAC9AF5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2D9A-4A22-401B-8C6D-2290637BA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600C-52B9-424A-AB2F-AA88AA8D8E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64B-1D02-49AC-B21A-47EFBD24E8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E2A-EFC7-4499-9215-C1A2AD8DBA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526-74CE-4877-A698-B56FC86225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3C9-E6EF-4F22-A5BD-EFCD15E53F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36C-A4B5-4457-93E5-40F229B4F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02DA-9E1E-426B-920D-3C4AA909B4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6BE-76BA-4D42-A40C-1D43F41413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4AF-0D44-4DCF-81A2-A7DFA67B75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C1A-8DAF-4AF2-977C-440E27B6DB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543-DBB0-4846-B0D5-12FD9F509E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E90-1C63-442E-AEED-9008831305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055-BA30-41F8-99ED-2DEEC52C0A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38C-B53A-4F9E-8030-B365791281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621B8-199B-4997-A096-5E93815077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91AFB-B9B6-4E6C-9460-31B2D99093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6211-36C9-46A9-9E6C-F80ECB79A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91B7-452E-4A17-9325-61488E78D7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5B03-ACB7-4861-B117-5FF6C9C7B8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70D7-60FD-4DA6-8AD1-9CB099E8F1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F6A7-5FBB-448F-AC58-05C0C17FCE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86604-5066-4B91-A415-A3F2A36B4F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4EF8-E8C1-454A-8D10-8C96C731CE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F0310-E378-4AB7-9472-128E1E8EF7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46057-EC1B-4710-8CBA-74F2CE4112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32C6-DB2F-428A-AAD7-FC14365DDE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2DEC1-AD78-4719-83E3-8609CCFC55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D6243-8204-48DD-983F-75FC36C9E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BFB9-1B5C-48AE-A9EF-68990D127A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5982-4ACA-4D67-B3B6-4FD81A6943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D4A2F-4FB6-4E01-998A-B8077DC515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8567B-267E-4D99-A656-23EB65200BA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45236-B69D-4B59-A1CE-0BA24870DE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007A7-5FE1-4931-A7CC-00B05E503A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B45E8-C282-4E96-8FCD-0B03A210BB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FF376-CD95-48E7-9D7A-94519AC8D6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7855B-8C0A-42F7-BBB6-E98FD08C97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76BA7-C994-4F71-BB1C-18AD7C45D1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1A550-D23D-4902-8BE6-2A9ED608A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E487-2DA7-4726-9B09-265225867D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6A8C9-6073-4ABB-AB91-8F70F0AB71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C78-E6C5-4C9A-9624-90DC4CAD0A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B038-3A18-454C-BE2D-B14DDF057E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49E-3941-4487-8D2D-24F9EA512C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474-7B4C-4F21-8D89-55E0BF29AD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D22-2C0B-41E9-A505-DBBD1B01A5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D888-B9A5-4CEB-B86B-0B3B537C94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53C2-9D3E-4C2F-A192-33DCC0454F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4B3-F894-4A8C-8589-113470A6D6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064-C41A-4EB6-93C2-719C00A36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1079-91F5-49BB-B6BE-BD85003925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5A9-F3AE-474F-B6AD-32BA6A81E5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3626-5E0C-4BEF-8839-4E6A18D6FF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8D4-D8A0-4665-B5BA-EA67391335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D023A-A31A-4002-AB27-A6BD4A36CC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0AC71-2833-45E1-90DD-188D163BCA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CC29F-53B0-40F6-BBF0-DFC958EE51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6A64E-D463-4ABF-B855-5A7F2AA677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F760E-BA8E-43F9-A415-DC18DBFE94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0902C-2387-488D-84D3-B790626693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02431-957E-4E71-A191-1915EC251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9638-80CA-455F-AC47-4DB7D565736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BED24-A077-4D25-AE46-6D8FB679E4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B7F83-D1D7-4AA0-BE5D-B883515B35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29B6C-7B77-47B1-A2A5-7C4E453FB5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EC071-4D6A-4E2E-B996-3FBE30D5D2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525A0-D8AC-461F-97C1-24DD9A8174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4A87A-A8B6-4A67-B9F4-F781FE14E0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3366E-F264-4E4D-B21E-B3A8515328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D43F0-B1C4-452A-AD1C-15AC2A48F3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40EE1-CFEA-43FE-B57F-FA571BC55B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7BB25-A396-42CA-AF34-5BD91D83D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3FE2-BD46-4346-878E-F0F1251EAC8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0000" y="3840120"/>
            <a:ext cx="2754180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F051C-53E3-474D-AF24-3C0385FE754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AA849-DFD9-4C18-9DE8-EFBC0F03A8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0DA9E-8641-4D32-874F-A0E4BE04E4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9A04E-3805-415B-8D5B-C2DD1D0B1D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0000" y="26020440"/>
            <a:ext cx="2754180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44D2E-B3ED-4B89-AE8D-2663D6AD4B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6542720" y="1248048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000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6542720" y="26020440"/>
            <a:ext cx="13440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35904-7762-4272-9FAD-237AE12CD5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74212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1054240" y="1248048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000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174212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1054240" y="26020440"/>
            <a:ext cx="8868240" cy="12364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91C87-5F61-41E5-AC5E-9F12B9D250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7985-4C02-440F-B4BD-429EB4C60CC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9E67-4A87-45C5-9EA9-0A92984F4C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11D1-2F93-4B6D-BC5F-09C5DB78D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182335-95E8-4CA2-9A28-5CD97A312357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0B3E8-D0D6-4753-A7A2-E625D2CFE70A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D8C9C3-41FB-473C-B7E1-351DD553E6DB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349D4D-60B6-4875-BABD-3A20053E314D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028B8-2D43-4FD4-A22F-08BDC7EEFA19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4CC1D-E75B-4508-9F06-EEE9D71485F0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2063E-52F3-422E-8134-840268365B5E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CF00CF-67B8-46B0-A991-9DE027073E76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F0CFFA-BB48-4086-8D3E-62930B39DAE3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AD67A-382C-4C11-86FA-67F44CA714DC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07C558-F9A2-41D7-B5FC-0BE7FFB1E35E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2430360" y="39365280"/>
            <a:ext cx="675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1071080" y="39365280"/>
            <a:ext cx="10261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0000" y="3840120"/>
            <a:ext cx="27541800" cy="719928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430000" y="12480480"/>
            <a:ext cx="27541800" cy="259225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43080" indent="0">
              <a:spcBef>
                <a:spcPts val="36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23223600" y="39364920"/>
            <a:ext cx="6748560" cy="287964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6D0F8-E88A-43AB-A62B-B917122D2F70}" type="slidenum">
              <a:rPr b="0" lang="pt-BR" sz="6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0" y="7140600"/>
            <a:ext cx="32403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5900" spc="-1" strike="noStrike">
                <a:solidFill>
                  <a:srgbClr val="000000"/>
                </a:solidFill>
                <a:latin typeface="Arial"/>
                <a:ea typeface="Geneva"/>
              </a:rPr>
              <a:t>Título do trabalho Arial, negrito, corpo 60 pt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2379600" y="9031320"/>
            <a:ext cx="275446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Nomes dos autores: arial, negrito, corpo 40p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Geneva"/>
              </a:rPr>
              <a:t>Instituições; unidade acadêmica e endereço eletrônico: arial, regular, corpo 30p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1204920" y="17237160"/>
            <a:ext cx="14400360" cy="71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METODOLOGI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6916400" y="31472280"/>
            <a:ext cx="1440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CONCLUSÃO/CONSIDERAÇÕES FINA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6857720" y="37376280"/>
            <a:ext cx="14400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FERÊNCIA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1204920" y="24606360"/>
            <a:ext cx="14400360" cy="10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RESULTADOS E DISCUSS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46240" y="35471160"/>
          <a:ext cx="14319360" cy="4656240"/>
        </p:xfrm>
        <a:graphic>
          <a:graphicData uri="http://schemas.openxmlformats.org/drawingml/2006/table">
            <a:tbl>
              <a:tblPr/>
              <a:tblGrid>
                <a:gridCol w="2863800"/>
                <a:gridCol w="2863800"/>
                <a:gridCol w="2863800"/>
                <a:gridCol w="2863800"/>
                <a:gridCol w="2864160"/>
              </a:tblGrid>
              <a:tr h="93168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na 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cc99"/>
                      </a:solidFill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>
                        <a:alpha val="20000"/>
                      </a:srgbClr>
                    </a:solidFill>
                  </a:tcPr>
                </a:tc>
              </a:tr>
              <a:tr h="9320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  <a:tab algn="l" pos="11231640"/>
                          <a:tab algn="l" pos="11680920"/>
                          <a:tab algn="l" pos="12130200"/>
                          <a:tab algn="l" pos="12579480"/>
                          <a:tab algn="l" pos="13028760"/>
                          <a:tab algn="l" pos="13478040"/>
                          <a:tab algn="l" pos="139269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48" descr=""/>
          <p:cNvPicPr/>
          <p:nvPr/>
        </p:nvPicPr>
        <p:blipFill>
          <a:blip r:embed="rId1"/>
          <a:stretch/>
        </p:blipFill>
        <p:spPr>
          <a:xfrm>
            <a:off x="16929000" y="19329480"/>
            <a:ext cx="14054400" cy="691668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9"/>
          <p:cNvSpPr/>
          <p:nvPr/>
        </p:nvSpPr>
        <p:spPr>
          <a:xfrm>
            <a:off x="1266840" y="10706040"/>
            <a:ext cx="29961000" cy="46080"/>
          </a:xfrm>
          <a:prstGeom prst="rect">
            <a:avLst/>
          </a:prstGeom>
          <a:solidFill>
            <a:srgbClr val="002b7b"/>
          </a:solidFill>
          <a:ln cap="sq"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50"/>
          <p:cNvSpPr/>
          <p:nvPr/>
        </p:nvSpPr>
        <p:spPr>
          <a:xfrm>
            <a:off x="1204920" y="11856960"/>
            <a:ext cx="1440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Geneva"/>
              </a:rPr>
              <a:t>INTRODUÇÃ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Corpo do texto Arial regular tamanho 32pt, podendo ser reduzido para até 24pt, caso a quantidade de texto ultrapasse o espaço delimitado. 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51" descr=""/>
          <p:cNvPicPr/>
          <p:nvPr/>
        </p:nvPicPr>
        <p:blipFill>
          <a:blip r:embed="rId2"/>
          <a:stretch/>
        </p:blipFill>
        <p:spPr>
          <a:xfrm>
            <a:off x="16897320" y="12069720"/>
            <a:ext cx="14398560" cy="55324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2"/>
          <p:cNvSpPr/>
          <p:nvPr/>
        </p:nvSpPr>
        <p:spPr>
          <a:xfrm>
            <a:off x="26596800" y="7029360"/>
            <a:ext cx="49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LOGO DA INSTITUIÇÃO DE ORIGEM (OPCIONAL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53"/>
          <p:cNvSpPr/>
          <p:nvPr/>
        </p:nvSpPr>
        <p:spPr>
          <a:xfrm>
            <a:off x="1146240" y="403480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bel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16940160" y="17881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1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16857720" y="262461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gura 2 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ítulo da tab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nte: Silva (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16857720" y="27070200"/>
            <a:ext cx="1620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Geneva"/>
              </a:rPr>
              <a:t>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nnnnnnnnnnbbbbbbbbbbbbbbbaaaaaaaaaaaaaaaaaaacccccccckkkkkkkkkkkkkkkkkkkppppppppppppppp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Imagem 2" descr="Texto&#10;&#10;Descrição gerada automaticamente"/>
          <p:cNvPicPr/>
          <p:nvPr/>
        </p:nvPicPr>
        <p:blipFill>
          <a:blip r:embed="rId3"/>
          <a:srcRect l="0" t="15079" r="0" b="22189"/>
          <a:stretch/>
        </p:blipFill>
        <p:spPr>
          <a:xfrm>
            <a:off x="0" y="-4680"/>
            <a:ext cx="3240396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21:30:54Z</dcterms:created>
  <dc:creator>UniRV</dc:creator>
  <dc:description/>
  <dc:language>en-US</dc:language>
  <cp:lastModifiedBy>Guilmer Brito Silva</cp:lastModifiedBy>
  <dcterms:modified xsi:type="dcterms:W3CDTF">2023-09-18T17:02:21Z</dcterms:modified>
  <cp:revision>246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6-10.2.0.5965</vt:lpwstr>
  </property>
</Properties>
</file>