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2399288" cy="396001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2D2F-4F06-4313-BC72-CA9983194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27320" y="2108160"/>
            <a:ext cx="27944640" cy="765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238560"/>
                <a:tab algn="l" pos="6477120"/>
                <a:tab algn="l" pos="9715680"/>
              </a:tabLst>
            </a:pPr>
            <a:endParaRPr b="0" lang="en-US" sz="15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27320" y="10540800"/>
            <a:ext cx="27944640" cy="119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538"/>
              </a:spcBef>
              <a:buNone/>
              <a:tabLst>
                <a:tab algn="l" pos="3238560"/>
                <a:tab algn="l" pos="6477120"/>
                <a:tab algn="l" pos="971568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27320" y="23665320"/>
            <a:ext cx="27944640" cy="119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538"/>
              </a:spcBef>
              <a:buNone/>
              <a:tabLst>
                <a:tab algn="l" pos="3238560"/>
                <a:tab algn="l" pos="6477120"/>
                <a:tab algn="l" pos="971568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51FE-1E32-4E94-825D-5818B263D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27320" y="2108160"/>
            <a:ext cx="27944640" cy="765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238560"/>
                <a:tab algn="l" pos="6477120"/>
                <a:tab algn="l" pos="9715680"/>
              </a:tabLst>
            </a:pPr>
            <a:endParaRPr b="0" lang="en-US" sz="15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27320" y="10540800"/>
            <a:ext cx="13636800" cy="119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538"/>
              </a:spcBef>
              <a:buNone/>
              <a:tabLst>
                <a:tab algn="l" pos="3238560"/>
                <a:tab algn="l" pos="6477120"/>
                <a:tab algn="l" pos="971568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546320" y="10540800"/>
            <a:ext cx="13636800" cy="119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538"/>
              </a:spcBef>
              <a:buNone/>
              <a:tabLst>
                <a:tab algn="l" pos="3238560"/>
                <a:tab algn="l" pos="6477120"/>
                <a:tab algn="l" pos="971568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27320" y="23665320"/>
            <a:ext cx="13636800" cy="119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538"/>
              </a:spcBef>
              <a:buNone/>
              <a:tabLst>
                <a:tab algn="l" pos="3238560"/>
                <a:tab algn="l" pos="6477120"/>
                <a:tab algn="l" pos="971568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546320" y="23665320"/>
            <a:ext cx="13636800" cy="119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538"/>
              </a:spcBef>
              <a:buNone/>
              <a:tabLst>
                <a:tab algn="l" pos="3238560"/>
                <a:tab algn="l" pos="6477120"/>
                <a:tab algn="l" pos="971568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538E-9E07-4125-A320-423E8CD41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27320" y="2108160"/>
            <a:ext cx="27944640" cy="765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238560"/>
                <a:tab algn="l" pos="6477120"/>
                <a:tab algn="l" pos="9715680"/>
              </a:tabLst>
            </a:pPr>
            <a:endParaRPr b="0" lang="en-US" sz="15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27320" y="10540800"/>
            <a:ext cx="8997840" cy="119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538"/>
              </a:spcBef>
              <a:buNone/>
              <a:tabLst>
                <a:tab algn="l" pos="3238560"/>
                <a:tab algn="l" pos="6477120"/>
                <a:tab algn="l" pos="971568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75520" y="10540800"/>
            <a:ext cx="8997840" cy="119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538"/>
              </a:spcBef>
              <a:buNone/>
              <a:tabLst>
                <a:tab algn="l" pos="3238560"/>
                <a:tab algn="l" pos="6477120"/>
                <a:tab algn="l" pos="971568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123720" y="10540800"/>
            <a:ext cx="8997840" cy="119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538"/>
              </a:spcBef>
              <a:buNone/>
              <a:tabLst>
                <a:tab algn="l" pos="3238560"/>
                <a:tab algn="l" pos="6477120"/>
                <a:tab algn="l" pos="971568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27320" y="23665320"/>
            <a:ext cx="8997840" cy="119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538"/>
              </a:spcBef>
              <a:buNone/>
              <a:tabLst>
                <a:tab algn="l" pos="3238560"/>
                <a:tab algn="l" pos="6477120"/>
                <a:tab algn="l" pos="971568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75520" y="23665320"/>
            <a:ext cx="8997840" cy="119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538"/>
              </a:spcBef>
              <a:buNone/>
              <a:tabLst>
                <a:tab algn="l" pos="3238560"/>
                <a:tab algn="l" pos="6477120"/>
                <a:tab algn="l" pos="971568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123720" y="23665320"/>
            <a:ext cx="8997840" cy="119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538"/>
              </a:spcBef>
              <a:buNone/>
              <a:tabLst>
                <a:tab algn="l" pos="3238560"/>
                <a:tab algn="l" pos="6477120"/>
                <a:tab algn="l" pos="971568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75B7-3894-4438-9720-F63868286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27320" y="2108160"/>
            <a:ext cx="27944640" cy="765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238560"/>
                <a:tab algn="l" pos="6477120"/>
                <a:tab algn="l" pos="9715680"/>
              </a:tabLst>
            </a:pPr>
            <a:endParaRPr b="0" lang="en-US" sz="15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27320" y="10540800"/>
            <a:ext cx="27944640" cy="251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538"/>
              </a:spcBef>
              <a:buNone/>
              <a:tabLst>
                <a:tab algn="l" pos="0"/>
                <a:tab algn="l" pos="3238560"/>
                <a:tab algn="l" pos="6477120"/>
                <a:tab algn="l" pos="971568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799D-0329-4205-BB8D-BD6558F03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27320" y="2108160"/>
            <a:ext cx="27944640" cy="765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238560"/>
                <a:tab algn="l" pos="6477120"/>
                <a:tab algn="l" pos="9715680"/>
              </a:tabLst>
            </a:pPr>
            <a:endParaRPr b="0" lang="en-US" sz="15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27320" y="10540800"/>
            <a:ext cx="27944640" cy="251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538"/>
              </a:spcBef>
              <a:buNone/>
              <a:tabLst>
                <a:tab algn="l" pos="3238560"/>
                <a:tab algn="l" pos="6477120"/>
                <a:tab algn="l" pos="971568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40D4-329F-4BF9-A3B1-579DFCF6B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27320" y="2108160"/>
            <a:ext cx="27944640" cy="765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238560"/>
                <a:tab algn="l" pos="6477120"/>
                <a:tab algn="l" pos="9715680"/>
              </a:tabLst>
            </a:pPr>
            <a:endParaRPr b="0" lang="en-US" sz="15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27320" y="10540800"/>
            <a:ext cx="13636800" cy="251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538"/>
              </a:spcBef>
              <a:buNone/>
              <a:tabLst>
                <a:tab algn="l" pos="3238560"/>
                <a:tab algn="l" pos="6477120"/>
                <a:tab algn="l" pos="971568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546320" y="10540800"/>
            <a:ext cx="13636800" cy="251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538"/>
              </a:spcBef>
              <a:buNone/>
              <a:tabLst>
                <a:tab algn="l" pos="3238560"/>
                <a:tab algn="l" pos="6477120"/>
                <a:tab algn="l" pos="971568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869D-3A52-48BA-BEB3-7574AE189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27320" y="2108160"/>
            <a:ext cx="27944640" cy="765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238560"/>
                <a:tab algn="l" pos="6477120"/>
                <a:tab algn="l" pos="9715680"/>
              </a:tabLst>
            </a:pPr>
            <a:endParaRPr b="0" lang="en-US" sz="15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2877-308F-4E99-83F4-A06F99CF4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27320" y="2108160"/>
            <a:ext cx="27944640" cy="354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538"/>
              </a:spcBef>
              <a:tabLst>
                <a:tab algn="l" pos="0"/>
                <a:tab algn="l" pos="3238560"/>
                <a:tab algn="l" pos="6477120"/>
                <a:tab algn="l" pos="971568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D9F9-799C-4645-AE7C-0BCC3CE3E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27320" y="2108160"/>
            <a:ext cx="27944640" cy="765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238560"/>
                <a:tab algn="l" pos="6477120"/>
                <a:tab algn="l" pos="9715680"/>
              </a:tabLst>
            </a:pPr>
            <a:endParaRPr b="0" lang="en-US" sz="15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27320" y="10540800"/>
            <a:ext cx="13636800" cy="119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538"/>
              </a:spcBef>
              <a:buNone/>
              <a:tabLst>
                <a:tab algn="l" pos="3238560"/>
                <a:tab algn="l" pos="6477120"/>
                <a:tab algn="l" pos="971568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546320" y="10540800"/>
            <a:ext cx="13636800" cy="251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538"/>
              </a:spcBef>
              <a:buNone/>
              <a:tabLst>
                <a:tab algn="l" pos="3238560"/>
                <a:tab algn="l" pos="6477120"/>
                <a:tab algn="l" pos="971568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27320" y="23665320"/>
            <a:ext cx="13636800" cy="119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538"/>
              </a:spcBef>
              <a:buNone/>
              <a:tabLst>
                <a:tab algn="l" pos="3238560"/>
                <a:tab algn="l" pos="6477120"/>
                <a:tab algn="l" pos="971568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2C01-95CA-4C40-A33A-08AD3D55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27320" y="2108160"/>
            <a:ext cx="27944640" cy="765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238560"/>
                <a:tab algn="l" pos="6477120"/>
                <a:tab algn="l" pos="9715680"/>
              </a:tabLst>
            </a:pPr>
            <a:endParaRPr b="0" lang="en-US" sz="15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27320" y="10540800"/>
            <a:ext cx="13636800" cy="251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538"/>
              </a:spcBef>
              <a:buNone/>
              <a:tabLst>
                <a:tab algn="l" pos="3238560"/>
                <a:tab algn="l" pos="6477120"/>
                <a:tab algn="l" pos="971568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546320" y="10540800"/>
            <a:ext cx="13636800" cy="119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538"/>
              </a:spcBef>
              <a:buNone/>
              <a:tabLst>
                <a:tab algn="l" pos="3238560"/>
                <a:tab algn="l" pos="6477120"/>
                <a:tab algn="l" pos="971568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546320" y="23665320"/>
            <a:ext cx="13636800" cy="119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538"/>
              </a:spcBef>
              <a:buNone/>
              <a:tabLst>
                <a:tab algn="l" pos="3238560"/>
                <a:tab algn="l" pos="6477120"/>
                <a:tab algn="l" pos="971568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D7B2-0914-4385-A6BC-2551FD55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27320" y="2108160"/>
            <a:ext cx="27944640" cy="765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238560"/>
                <a:tab algn="l" pos="6477120"/>
                <a:tab algn="l" pos="9715680"/>
              </a:tabLst>
            </a:pPr>
            <a:endParaRPr b="0" lang="en-US" sz="15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27320" y="10540800"/>
            <a:ext cx="13636800" cy="119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538"/>
              </a:spcBef>
              <a:buNone/>
              <a:tabLst>
                <a:tab algn="l" pos="3238560"/>
                <a:tab algn="l" pos="6477120"/>
                <a:tab algn="l" pos="971568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546320" y="10540800"/>
            <a:ext cx="13636800" cy="119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538"/>
              </a:spcBef>
              <a:buNone/>
              <a:tabLst>
                <a:tab algn="l" pos="3238560"/>
                <a:tab algn="l" pos="6477120"/>
                <a:tab algn="l" pos="971568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27320" y="23665320"/>
            <a:ext cx="27944640" cy="119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538"/>
              </a:spcBef>
              <a:buNone/>
              <a:tabLst>
                <a:tab algn="l" pos="3238560"/>
                <a:tab algn="l" pos="6477120"/>
                <a:tab algn="l" pos="971568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1EBD-7F15-4B58-9CE9-FF17D5F6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27320" y="2108160"/>
            <a:ext cx="27944640" cy="765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238560"/>
                <a:tab algn="l" pos="6477120"/>
                <a:tab algn="l" pos="9715680"/>
              </a:tabLst>
            </a:pPr>
            <a:r>
              <a:rPr b="0" lang="en-US" sz="155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15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27320" y="10540800"/>
            <a:ext cx="27944640" cy="251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09640" indent="-809640">
              <a:lnSpc>
                <a:spcPct val="90000"/>
              </a:lnSpc>
              <a:spcBef>
                <a:spcPts val="3538"/>
              </a:spcBef>
              <a:buClr>
                <a:srgbClr val="000000"/>
              </a:buClr>
              <a:buFont typeface="Arial"/>
              <a:buChar char="•"/>
              <a:tabLst>
                <a:tab algn="l" pos="3238560"/>
                <a:tab algn="l" pos="6477120"/>
                <a:tab algn="l" pos="9715680"/>
              </a:tabLst>
            </a:pPr>
            <a:r>
              <a:rPr b="0" lang="en-US" sz="9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  <a:p>
            <a:pPr lvl="1" marL="2428920" indent="-809640">
              <a:lnSpc>
                <a:spcPct val="90000"/>
              </a:lnSpc>
              <a:spcBef>
                <a:spcPts val="3538"/>
              </a:spcBef>
              <a:buClr>
                <a:srgbClr val="000000"/>
              </a:buClr>
              <a:buFont typeface="Arial"/>
              <a:buChar char="•"/>
              <a:tabLst>
                <a:tab algn="l" pos="3238560"/>
                <a:tab algn="l" pos="6477120"/>
                <a:tab algn="l" pos="9715680"/>
              </a:tabLst>
            </a:pPr>
            <a:r>
              <a:rPr b="0" lang="en-US" sz="9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  <a:p>
            <a:pPr lvl="2" marL="4049640" indent="-809640">
              <a:lnSpc>
                <a:spcPct val="90000"/>
              </a:lnSpc>
              <a:spcBef>
                <a:spcPts val="3538"/>
              </a:spcBef>
              <a:buClr>
                <a:srgbClr val="000000"/>
              </a:buClr>
              <a:buFont typeface="Arial"/>
              <a:buChar char="•"/>
              <a:tabLst>
                <a:tab algn="l" pos="3238560"/>
                <a:tab algn="l" pos="6477120"/>
                <a:tab algn="l" pos="9715680"/>
              </a:tabLst>
            </a:pPr>
            <a:r>
              <a:rPr b="0" lang="en-US" sz="9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  <a:p>
            <a:pPr lvl="3" marL="5668920" indent="-809640">
              <a:lnSpc>
                <a:spcPct val="90000"/>
              </a:lnSpc>
              <a:spcBef>
                <a:spcPts val="3538"/>
              </a:spcBef>
              <a:buClr>
                <a:srgbClr val="000000"/>
              </a:buClr>
              <a:buFont typeface="Arial"/>
              <a:buChar char="•"/>
              <a:tabLst>
                <a:tab algn="l" pos="3238560"/>
                <a:tab algn="l" pos="6477120"/>
                <a:tab algn="l" pos="9715680"/>
              </a:tabLst>
            </a:pPr>
            <a:r>
              <a:rPr b="0" lang="en-US" sz="9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  <a:p>
            <a:pPr lvl="4" marL="7288200" indent="-809640">
              <a:lnSpc>
                <a:spcPct val="90000"/>
              </a:lnSpc>
              <a:spcBef>
                <a:spcPts val="3538"/>
              </a:spcBef>
              <a:buClr>
                <a:srgbClr val="000000"/>
              </a:buClr>
              <a:buFont typeface="Arial"/>
              <a:buChar char="•"/>
              <a:tabLst>
                <a:tab algn="l" pos="3238560"/>
                <a:tab algn="l" pos="6477120"/>
                <a:tab algn="l" pos="9715680"/>
              </a:tabLst>
            </a:pPr>
            <a:r>
              <a:rPr b="0" lang="en-US" sz="9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  <a:p>
            <a:pPr lvl="5" marL="7288200" indent="-809640">
              <a:lnSpc>
                <a:spcPct val="90000"/>
              </a:lnSpc>
              <a:spcBef>
                <a:spcPts val="3538"/>
              </a:spcBef>
              <a:buClr>
                <a:srgbClr val="000000"/>
              </a:buClr>
              <a:buFont typeface="Arial"/>
              <a:buChar char="•"/>
              <a:tabLst>
                <a:tab algn="l" pos="3238560"/>
                <a:tab algn="l" pos="6477120"/>
                <a:tab algn="l" pos="9715680"/>
              </a:tabLst>
            </a:pPr>
            <a:r>
              <a:rPr b="0" lang="en-US" sz="9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  <a:p>
            <a:pPr lvl="6" marL="7288200" indent="-809640">
              <a:lnSpc>
                <a:spcPct val="90000"/>
              </a:lnSpc>
              <a:spcBef>
                <a:spcPts val="3538"/>
              </a:spcBef>
              <a:buClr>
                <a:srgbClr val="000000"/>
              </a:buClr>
              <a:buFont typeface="Arial"/>
              <a:buChar char="•"/>
              <a:tabLst>
                <a:tab algn="l" pos="3238560"/>
                <a:tab algn="l" pos="6477120"/>
                <a:tab algn="l" pos="9715680"/>
              </a:tabLst>
            </a:pPr>
            <a:r>
              <a:rPr b="0" lang="en-US" sz="9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26960" y="36703080"/>
            <a:ext cx="72896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731600" y="36703080"/>
            <a:ext cx="10936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881960" y="36703080"/>
            <a:ext cx="72896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4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001215-7E2A-4BA7-90AA-18203AA42D56}" type="slidenum">
              <a:rPr b="0" lang="pt-BR" sz="4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655640" y="5281560"/>
            <a:ext cx="14087520" cy="7260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1593720"/>
                <a:tab algn="l" pos="3187800"/>
                <a:tab algn="l" pos="4781520"/>
                <a:tab algn="l" pos="6375240"/>
                <a:tab algn="l" pos="7969320"/>
                <a:tab algn="l" pos="95630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Verdana"/>
              </a:rPr>
              <a:t>Introduçã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1593720"/>
                <a:tab algn="l" pos="3187800"/>
                <a:tab algn="l" pos="4781520"/>
                <a:tab algn="l" pos="6375240"/>
                <a:tab algn="l" pos="7969320"/>
                <a:tab algn="l" pos="9563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1593720"/>
                <a:tab algn="l" pos="3187800"/>
                <a:tab algn="l" pos="4781520"/>
                <a:tab algn="l" pos="6375240"/>
                <a:tab algn="l" pos="7969320"/>
                <a:tab algn="l" pos="9563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1593720"/>
                <a:tab algn="l" pos="3187800"/>
                <a:tab algn="l" pos="4781520"/>
                <a:tab algn="l" pos="6375240"/>
                <a:tab algn="l" pos="7969320"/>
                <a:tab algn="l" pos="9563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1593720"/>
                <a:tab algn="l" pos="3187800"/>
                <a:tab algn="l" pos="4781520"/>
                <a:tab algn="l" pos="6375240"/>
                <a:tab algn="l" pos="7969320"/>
                <a:tab algn="l" pos="9563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1593720"/>
                <a:tab algn="l" pos="3187800"/>
                <a:tab algn="l" pos="4781520"/>
                <a:tab algn="l" pos="6375240"/>
                <a:tab algn="l" pos="7969320"/>
                <a:tab algn="l" pos="9563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1593720"/>
                <a:tab algn="l" pos="3187800"/>
                <a:tab algn="l" pos="4781520"/>
                <a:tab algn="l" pos="6375240"/>
                <a:tab algn="l" pos="7969320"/>
                <a:tab algn="l" pos="9563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1593720"/>
                <a:tab algn="l" pos="3187800"/>
                <a:tab algn="l" pos="4781520"/>
                <a:tab algn="l" pos="6375240"/>
                <a:tab algn="l" pos="7969320"/>
                <a:tab algn="l" pos="9563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1593720"/>
                <a:tab algn="l" pos="3187800"/>
                <a:tab algn="l" pos="4781520"/>
                <a:tab algn="l" pos="6375240"/>
                <a:tab algn="l" pos="7969320"/>
                <a:tab algn="l" pos="9563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1593720"/>
                <a:tab algn="l" pos="3187800"/>
                <a:tab algn="l" pos="4781520"/>
                <a:tab algn="l" pos="6375240"/>
                <a:tab algn="l" pos="7969320"/>
                <a:tab algn="l" pos="9563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1593720"/>
                <a:tab algn="l" pos="3187800"/>
                <a:tab algn="l" pos="4781520"/>
                <a:tab algn="l" pos="6375240"/>
                <a:tab algn="l" pos="7969320"/>
                <a:tab algn="l" pos="9563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1593720"/>
                <a:tab algn="l" pos="3187800"/>
                <a:tab algn="l" pos="4781520"/>
                <a:tab algn="l" pos="6375240"/>
                <a:tab algn="l" pos="7969320"/>
                <a:tab algn="l" pos="9563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1593720"/>
                <a:tab algn="l" pos="3187800"/>
                <a:tab algn="l" pos="4781520"/>
                <a:tab algn="l" pos="6375240"/>
                <a:tab algn="l" pos="7969320"/>
                <a:tab algn="l" pos="9563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1593720"/>
                <a:tab algn="l" pos="3187800"/>
                <a:tab algn="l" pos="4781520"/>
                <a:tab algn="l" pos="6375240"/>
                <a:tab algn="l" pos="7969320"/>
                <a:tab algn="l" pos="9563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0" y="1631880"/>
            <a:ext cx="1843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0" y="1631880"/>
            <a:ext cx="1843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0" y="1631880"/>
            <a:ext cx="1843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-1440" y="-128520"/>
            <a:ext cx="1176120" cy="39728880"/>
          </a:xfrm>
          <a:prstGeom prst="rect">
            <a:avLst/>
          </a:prstGeom>
          <a:solidFill>
            <a:srgbClr val="00b6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792000" y="-128520"/>
            <a:ext cx="31607280" cy="1177920"/>
          </a:xfrm>
          <a:prstGeom prst="rect">
            <a:avLst/>
          </a:prstGeom>
          <a:solidFill>
            <a:srgbClr val="00b6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 Box 19"/>
          <p:cNvSpPr/>
          <p:nvPr/>
        </p:nvSpPr>
        <p:spPr>
          <a:xfrm>
            <a:off x="27198720" y="3400560"/>
            <a:ext cx="26668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20"/>
          <p:cNvSpPr/>
          <p:nvPr/>
        </p:nvSpPr>
        <p:spPr>
          <a:xfrm>
            <a:off x="12553920" y="1799640"/>
            <a:ext cx="18046800" cy="2432880"/>
          </a:xfrm>
          <a:prstGeom prst="rect">
            <a:avLst/>
          </a:prstGeom>
          <a:solidFill>
            <a:srgbClr val="00b6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Verdana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Nome dos auto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28020960" y="3660840"/>
            <a:ext cx="18576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23"/>
          <p:cNvSpPr/>
          <p:nvPr/>
        </p:nvSpPr>
        <p:spPr>
          <a:xfrm>
            <a:off x="1655640" y="19759680"/>
            <a:ext cx="14122440" cy="1395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1593720"/>
                <a:tab algn="l" pos="3187800"/>
                <a:tab algn="l" pos="4781520"/>
                <a:tab algn="l" pos="6375240"/>
                <a:tab algn="l" pos="7969320"/>
                <a:tab algn="l" pos="95630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Verdana"/>
              </a:rPr>
              <a:t>Discuss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1593720"/>
                <a:tab algn="l" pos="3187800"/>
                <a:tab algn="l" pos="4781520"/>
                <a:tab algn="l" pos="6375240"/>
                <a:tab algn="l" pos="7969320"/>
                <a:tab algn="l" pos="9563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1593720"/>
                <a:tab algn="l" pos="3187800"/>
                <a:tab algn="l" pos="4781520"/>
                <a:tab algn="l" pos="6375240"/>
                <a:tab algn="l" pos="7969320"/>
                <a:tab algn="l" pos="9563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1593720"/>
                <a:tab algn="l" pos="3187800"/>
                <a:tab algn="l" pos="4781520"/>
                <a:tab algn="l" pos="6375240"/>
                <a:tab algn="l" pos="7969320"/>
                <a:tab algn="l" pos="9563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1593720"/>
                <a:tab algn="l" pos="3187800"/>
                <a:tab algn="l" pos="4781520"/>
                <a:tab algn="l" pos="6375240"/>
                <a:tab algn="l" pos="7969320"/>
                <a:tab algn="l" pos="9563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1593720"/>
                <a:tab algn="l" pos="3187800"/>
                <a:tab algn="l" pos="4781520"/>
                <a:tab algn="l" pos="6375240"/>
                <a:tab algn="l" pos="7969320"/>
                <a:tab algn="l" pos="9563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1593720"/>
                <a:tab algn="l" pos="3187800"/>
                <a:tab algn="l" pos="4781520"/>
                <a:tab algn="l" pos="6375240"/>
                <a:tab algn="l" pos="7969320"/>
                <a:tab algn="l" pos="9563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1593720"/>
                <a:tab algn="l" pos="3187800"/>
                <a:tab algn="l" pos="4781520"/>
                <a:tab algn="l" pos="6375240"/>
                <a:tab algn="l" pos="7969320"/>
                <a:tab algn="l" pos="9563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1593720"/>
                <a:tab algn="l" pos="3187800"/>
                <a:tab algn="l" pos="4781520"/>
                <a:tab algn="l" pos="6375240"/>
                <a:tab algn="l" pos="7969320"/>
                <a:tab algn="l" pos="9563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1593720"/>
                <a:tab algn="l" pos="3187800"/>
                <a:tab algn="l" pos="4781520"/>
                <a:tab algn="l" pos="6375240"/>
                <a:tab algn="l" pos="7969320"/>
                <a:tab algn="l" pos="9563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1593720"/>
                <a:tab algn="l" pos="3187800"/>
                <a:tab algn="l" pos="4781520"/>
                <a:tab algn="l" pos="6375240"/>
                <a:tab algn="l" pos="7969320"/>
                <a:tab algn="l" pos="9563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1593720"/>
                <a:tab algn="l" pos="3187800"/>
                <a:tab algn="l" pos="4781520"/>
                <a:tab algn="l" pos="6375240"/>
                <a:tab algn="l" pos="7969320"/>
                <a:tab algn="l" pos="9563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1593720"/>
                <a:tab algn="l" pos="3187800"/>
                <a:tab algn="l" pos="4781520"/>
                <a:tab algn="l" pos="6375240"/>
                <a:tab algn="l" pos="7969320"/>
                <a:tab algn="l" pos="9563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1593720"/>
                <a:tab algn="l" pos="3187800"/>
                <a:tab algn="l" pos="4781520"/>
                <a:tab algn="l" pos="6375240"/>
                <a:tab algn="l" pos="7969320"/>
                <a:tab algn="l" pos="9563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1593720"/>
                <a:tab algn="l" pos="3187800"/>
                <a:tab algn="l" pos="4781520"/>
                <a:tab algn="l" pos="6375240"/>
                <a:tab algn="l" pos="7969320"/>
                <a:tab algn="l" pos="9563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1593720"/>
                <a:tab algn="l" pos="3187800"/>
                <a:tab algn="l" pos="4781520"/>
                <a:tab algn="l" pos="6375240"/>
                <a:tab algn="l" pos="7969320"/>
                <a:tab algn="l" pos="9563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1593720"/>
                <a:tab algn="l" pos="3187800"/>
                <a:tab algn="l" pos="4781520"/>
                <a:tab algn="l" pos="6375240"/>
                <a:tab algn="l" pos="7969320"/>
                <a:tab algn="l" pos="9563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1593720"/>
                <a:tab algn="l" pos="3187800"/>
                <a:tab algn="l" pos="4781520"/>
                <a:tab algn="l" pos="6375240"/>
                <a:tab algn="l" pos="7969320"/>
                <a:tab algn="l" pos="9563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1593720"/>
                <a:tab algn="l" pos="3187800"/>
                <a:tab algn="l" pos="4781520"/>
                <a:tab algn="l" pos="6375240"/>
                <a:tab algn="l" pos="7969320"/>
                <a:tab algn="l" pos="9563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1593720"/>
                <a:tab algn="l" pos="3187800"/>
                <a:tab algn="l" pos="4781520"/>
                <a:tab algn="l" pos="6375240"/>
                <a:tab algn="l" pos="7969320"/>
                <a:tab algn="l" pos="9563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30"/>
          <p:cNvSpPr/>
          <p:nvPr/>
        </p:nvSpPr>
        <p:spPr>
          <a:xfrm>
            <a:off x="16532280" y="21810600"/>
            <a:ext cx="14068440" cy="623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1593720"/>
                <a:tab algn="l" pos="3187800"/>
                <a:tab algn="l" pos="4781520"/>
                <a:tab algn="l" pos="6375240"/>
                <a:tab algn="l" pos="7969320"/>
                <a:tab algn="l" pos="956304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Verdana"/>
              </a:rPr>
              <a:t>Considerações finai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1593720"/>
                <a:tab algn="l" pos="3187800"/>
                <a:tab algn="l" pos="4781520"/>
                <a:tab algn="l" pos="6375240"/>
                <a:tab algn="l" pos="7969320"/>
                <a:tab algn="l" pos="9563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1593720"/>
                <a:tab algn="l" pos="3187800"/>
                <a:tab algn="l" pos="4781520"/>
                <a:tab algn="l" pos="6375240"/>
                <a:tab algn="l" pos="7969320"/>
                <a:tab algn="l" pos="9563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1593720"/>
                <a:tab algn="l" pos="3187800"/>
                <a:tab algn="l" pos="4781520"/>
                <a:tab algn="l" pos="6375240"/>
                <a:tab algn="l" pos="7969320"/>
                <a:tab algn="l" pos="9563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1593720"/>
                <a:tab algn="l" pos="3187800"/>
                <a:tab algn="l" pos="4781520"/>
                <a:tab algn="l" pos="6375240"/>
                <a:tab algn="l" pos="7969320"/>
                <a:tab algn="l" pos="9563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1593720"/>
                <a:tab algn="l" pos="3187800"/>
                <a:tab algn="l" pos="4781520"/>
                <a:tab algn="l" pos="6375240"/>
                <a:tab algn="l" pos="7969320"/>
                <a:tab algn="l" pos="9563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1593720"/>
                <a:tab algn="l" pos="3187800"/>
                <a:tab algn="l" pos="4781520"/>
                <a:tab algn="l" pos="6375240"/>
                <a:tab algn="l" pos="7969320"/>
                <a:tab algn="l" pos="9563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1593720"/>
                <a:tab algn="l" pos="3187800"/>
                <a:tab algn="l" pos="4781520"/>
                <a:tab algn="l" pos="6375240"/>
                <a:tab algn="l" pos="7969320"/>
                <a:tab algn="l" pos="9563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1593720"/>
                <a:tab algn="l" pos="3187800"/>
                <a:tab algn="l" pos="4781520"/>
                <a:tab algn="l" pos="6375240"/>
                <a:tab algn="l" pos="7969320"/>
                <a:tab algn="l" pos="9563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1593720"/>
                <a:tab algn="l" pos="3187800"/>
                <a:tab algn="l" pos="4781520"/>
                <a:tab algn="l" pos="6375240"/>
                <a:tab algn="l" pos="7969320"/>
                <a:tab algn="l" pos="9563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1593720"/>
                <a:tab algn="l" pos="3187800"/>
                <a:tab algn="l" pos="4781520"/>
                <a:tab algn="l" pos="6375240"/>
                <a:tab algn="l" pos="7969320"/>
                <a:tab algn="l" pos="9563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1593720"/>
                <a:tab algn="l" pos="3187800"/>
                <a:tab algn="l" pos="4781520"/>
                <a:tab algn="l" pos="6375240"/>
                <a:tab algn="l" pos="7969320"/>
                <a:tab algn="l" pos="9563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31"/>
          <p:cNvSpPr/>
          <p:nvPr/>
        </p:nvSpPr>
        <p:spPr>
          <a:xfrm>
            <a:off x="16514640" y="28876680"/>
            <a:ext cx="14068440" cy="470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1593720"/>
                <a:tab algn="l" pos="3187800"/>
                <a:tab algn="l" pos="4781520"/>
                <a:tab algn="l" pos="6375240"/>
                <a:tab algn="l" pos="7969320"/>
                <a:tab algn="l" pos="956304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Verdana"/>
              </a:rPr>
              <a:t>Referênci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1593720"/>
                <a:tab algn="l" pos="3187800"/>
                <a:tab algn="l" pos="4781520"/>
                <a:tab algn="l" pos="6375240"/>
                <a:tab algn="l" pos="7969320"/>
                <a:tab algn="l" pos="9563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1593720"/>
                <a:tab algn="l" pos="3187800"/>
                <a:tab algn="l" pos="4781520"/>
                <a:tab algn="l" pos="6375240"/>
                <a:tab algn="l" pos="7969320"/>
                <a:tab algn="l" pos="9563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1593720"/>
                <a:tab algn="l" pos="3187800"/>
                <a:tab algn="l" pos="4781520"/>
                <a:tab algn="l" pos="6375240"/>
                <a:tab algn="l" pos="7969320"/>
                <a:tab algn="l" pos="9563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1593720"/>
                <a:tab algn="l" pos="3187800"/>
                <a:tab algn="l" pos="4781520"/>
                <a:tab algn="l" pos="6375240"/>
                <a:tab algn="l" pos="7969320"/>
                <a:tab algn="l" pos="9563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1593720"/>
                <a:tab algn="l" pos="3187800"/>
                <a:tab algn="l" pos="4781520"/>
                <a:tab algn="l" pos="6375240"/>
                <a:tab algn="l" pos="7969320"/>
                <a:tab algn="l" pos="9563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1593720"/>
                <a:tab algn="l" pos="3187800"/>
                <a:tab algn="l" pos="4781520"/>
                <a:tab algn="l" pos="6375240"/>
                <a:tab algn="l" pos="7969320"/>
                <a:tab algn="l" pos="9563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1593720"/>
                <a:tab algn="l" pos="3187800"/>
                <a:tab algn="l" pos="4781520"/>
                <a:tab algn="l" pos="6375240"/>
                <a:tab algn="l" pos="7969320"/>
                <a:tab algn="l" pos="9563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1593720"/>
                <a:tab algn="l" pos="3187800"/>
                <a:tab algn="l" pos="4781520"/>
                <a:tab algn="l" pos="6375240"/>
                <a:tab algn="l" pos="7969320"/>
                <a:tab algn="l" pos="9563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tângulo 1"/>
          <p:cNvSpPr/>
          <p:nvPr/>
        </p:nvSpPr>
        <p:spPr>
          <a:xfrm>
            <a:off x="1655640" y="13354200"/>
            <a:ext cx="14087520" cy="572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Verdana"/>
              </a:rPr>
              <a:t>Material e método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 Box 23"/>
          <p:cNvSpPr/>
          <p:nvPr/>
        </p:nvSpPr>
        <p:spPr>
          <a:xfrm>
            <a:off x="16514640" y="5191200"/>
            <a:ext cx="14086080" cy="159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1593720"/>
                <a:tab algn="l" pos="3187800"/>
                <a:tab algn="l" pos="4781520"/>
                <a:tab algn="l" pos="6375240"/>
                <a:tab algn="l" pos="7969320"/>
                <a:tab algn="l" pos="9563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1593720"/>
                <a:tab algn="l" pos="3187800"/>
                <a:tab algn="l" pos="4781520"/>
                <a:tab algn="l" pos="6375240"/>
                <a:tab algn="l" pos="7969320"/>
                <a:tab algn="l" pos="9563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1593720"/>
                <a:tab algn="l" pos="3187800"/>
                <a:tab algn="l" pos="4781520"/>
                <a:tab algn="l" pos="6375240"/>
                <a:tab algn="l" pos="7969320"/>
                <a:tab algn="l" pos="9563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1593720"/>
                <a:tab algn="l" pos="3187800"/>
                <a:tab algn="l" pos="4781520"/>
                <a:tab algn="l" pos="6375240"/>
                <a:tab algn="l" pos="7969320"/>
                <a:tab algn="l" pos="9563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1593720"/>
                <a:tab algn="l" pos="3187800"/>
                <a:tab algn="l" pos="4781520"/>
                <a:tab algn="l" pos="6375240"/>
                <a:tab algn="l" pos="7969320"/>
                <a:tab algn="l" pos="9563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1593720"/>
                <a:tab algn="l" pos="3187800"/>
                <a:tab algn="l" pos="4781520"/>
                <a:tab algn="l" pos="6375240"/>
                <a:tab algn="l" pos="7969320"/>
                <a:tab algn="l" pos="9563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1593720"/>
                <a:tab algn="l" pos="3187800"/>
                <a:tab algn="l" pos="4781520"/>
                <a:tab algn="l" pos="6375240"/>
                <a:tab algn="l" pos="7969320"/>
                <a:tab algn="l" pos="9563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1593720"/>
                <a:tab algn="l" pos="3187800"/>
                <a:tab algn="l" pos="4781520"/>
                <a:tab algn="l" pos="6375240"/>
                <a:tab algn="l" pos="7969320"/>
                <a:tab algn="l" pos="9563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1593720"/>
                <a:tab algn="l" pos="3187800"/>
                <a:tab algn="l" pos="4781520"/>
                <a:tab algn="l" pos="6375240"/>
                <a:tab algn="l" pos="7969320"/>
                <a:tab algn="l" pos="9563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1593720"/>
                <a:tab algn="l" pos="3187800"/>
                <a:tab algn="l" pos="4781520"/>
                <a:tab algn="l" pos="6375240"/>
                <a:tab algn="l" pos="7969320"/>
                <a:tab algn="l" pos="9563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1593720"/>
                <a:tab algn="l" pos="3187800"/>
                <a:tab algn="l" pos="4781520"/>
                <a:tab algn="l" pos="6375240"/>
                <a:tab algn="l" pos="7969320"/>
                <a:tab algn="l" pos="9563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1593720"/>
                <a:tab algn="l" pos="3187800"/>
                <a:tab algn="l" pos="4781520"/>
                <a:tab algn="l" pos="6375240"/>
                <a:tab algn="l" pos="7969320"/>
                <a:tab algn="l" pos="9563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1593720"/>
                <a:tab algn="l" pos="3187800"/>
                <a:tab algn="l" pos="4781520"/>
                <a:tab algn="l" pos="6375240"/>
                <a:tab algn="l" pos="7969320"/>
                <a:tab algn="l" pos="9563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1593720"/>
                <a:tab algn="l" pos="3187800"/>
                <a:tab algn="l" pos="4781520"/>
                <a:tab algn="l" pos="6375240"/>
                <a:tab algn="l" pos="7969320"/>
                <a:tab algn="l" pos="9563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1593720"/>
                <a:tab algn="l" pos="3187800"/>
                <a:tab algn="l" pos="4781520"/>
                <a:tab algn="l" pos="6375240"/>
                <a:tab algn="l" pos="7969320"/>
                <a:tab algn="l" pos="9563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1593720"/>
                <a:tab algn="l" pos="3187800"/>
                <a:tab algn="l" pos="4781520"/>
                <a:tab algn="l" pos="6375240"/>
                <a:tab algn="l" pos="7969320"/>
                <a:tab algn="l" pos="9563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1593720"/>
                <a:tab algn="l" pos="3187800"/>
                <a:tab algn="l" pos="4781520"/>
                <a:tab algn="l" pos="6375240"/>
                <a:tab algn="l" pos="7969320"/>
                <a:tab algn="l" pos="9563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1593720"/>
                <a:tab algn="l" pos="3187800"/>
                <a:tab algn="l" pos="4781520"/>
                <a:tab algn="l" pos="6375240"/>
                <a:tab algn="l" pos="7969320"/>
                <a:tab algn="l" pos="9563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1593720"/>
                <a:tab algn="l" pos="3187800"/>
                <a:tab algn="l" pos="4781520"/>
                <a:tab algn="l" pos="6375240"/>
                <a:tab algn="l" pos="7969320"/>
                <a:tab algn="l" pos="9563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1593720"/>
                <a:tab algn="l" pos="3187800"/>
                <a:tab algn="l" pos="4781520"/>
                <a:tab algn="l" pos="6375240"/>
                <a:tab algn="l" pos="7969320"/>
                <a:tab algn="l" pos="9563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1593720"/>
                <a:tab algn="l" pos="3187800"/>
                <a:tab algn="l" pos="4781520"/>
                <a:tab algn="l" pos="6375240"/>
                <a:tab algn="l" pos="7969320"/>
                <a:tab algn="l" pos="9563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1593720"/>
                <a:tab algn="l" pos="3187800"/>
                <a:tab algn="l" pos="4781520"/>
                <a:tab algn="l" pos="6375240"/>
                <a:tab algn="l" pos="7969320"/>
                <a:tab algn="l" pos="9563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1593720"/>
                <a:tab algn="l" pos="3187800"/>
                <a:tab algn="l" pos="4781520"/>
                <a:tab algn="l" pos="6375240"/>
                <a:tab algn="l" pos="7969320"/>
                <a:tab algn="l" pos="9563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CaixaDeTexto 2"/>
          <p:cNvSpPr/>
          <p:nvPr/>
        </p:nvSpPr>
        <p:spPr>
          <a:xfrm>
            <a:off x="20591640" y="13247640"/>
            <a:ext cx="183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36"/>
          <p:cNvSpPr/>
          <p:nvPr/>
        </p:nvSpPr>
        <p:spPr>
          <a:xfrm>
            <a:off x="1725480" y="34486920"/>
            <a:ext cx="401508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3908520"/>
                <a:tab algn="l" pos="7816680"/>
              </a:tabLst>
            </a:pPr>
            <a:r>
              <a:rPr b="1" lang="pt-BR" sz="3000" spc="-1" strike="noStrike">
                <a:solidFill>
                  <a:srgbClr val="17365d"/>
                </a:solidFill>
                <a:latin typeface="Verdana"/>
                <a:ea typeface="Verdana"/>
              </a:rPr>
              <a:t>Realizaçã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8" descr="Logo Claretiano"/>
          <p:cNvPicPr/>
          <p:nvPr/>
        </p:nvPicPr>
        <p:blipFill>
          <a:blip r:embed="rId1"/>
          <a:srcRect l="0" t="15820" r="0" b="16372"/>
          <a:stretch/>
        </p:blipFill>
        <p:spPr>
          <a:xfrm>
            <a:off x="7639200" y="35337600"/>
            <a:ext cx="4341600" cy="2943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0" descr="06-logo_usp_sem_fundo"/>
          <p:cNvPicPr/>
          <p:nvPr/>
        </p:nvPicPr>
        <p:blipFill>
          <a:blip r:embed="rId2"/>
          <a:stretch/>
        </p:blipFill>
        <p:spPr>
          <a:xfrm>
            <a:off x="24858720" y="35656920"/>
            <a:ext cx="5742000" cy="2266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1" descr="unnamed"/>
          <p:cNvPicPr/>
          <p:nvPr/>
        </p:nvPicPr>
        <p:blipFill>
          <a:blip r:embed="rId3"/>
          <a:stretch/>
        </p:blipFill>
        <p:spPr>
          <a:xfrm>
            <a:off x="2075040" y="35066160"/>
            <a:ext cx="4844880" cy="3538800"/>
          </a:xfrm>
          <a:prstGeom prst="rect">
            <a:avLst/>
          </a:prstGeom>
          <a:ln w="0">
            <a:noFill/>
          </a:ln>
        </p:spPr>
      </p:pic>
      <p:pic>
        <p:nvPicPr>
          <p:cNvPr id="60" name="Imagem 2" descr=""/>
          <p:cNvPicPr/>
          <p:nvPr/>
        </p:nvPicPr>
        <p:blipFill>
          <a:blip r:embed="rId4"/>
          <a:stretch/>
        </p:blipFill>
        <p:spPr>
          <a:xfrm>
            <a:off x="13168440" y="34928280"/>
            <a:ext cx="4844880" cy="3390840"/>
          </a:xfrm>
          <a:prstGeom prst="rect">
            <a:avLst/>
          </a:prstGeom>
          <a:ln w="0">
            <a:noFill/>
          </a:ln>
        </p:spPr>
      </p:pic>
      <p:pic>
        <p:nvPicPr>
          <p:cNvPr id="61" name="Imagem 4" descr=""/>
          <p:cNvPicPr/>
          <p:nvPr/>
        </p:nvPicPr>
        <p:blipFill>
          <a:blip r:embed="rId5"/>
          <a:stretch/>
        </p:blipFill>
        <p:spPr>
          <a:xfrm>
            <a:off x="18969120" y="34958160"/>
            <a:ext cx="4984560" cy="3168720"/>
          </a:xfrm>
          <a:prstGeom prst="rect">
            <a:avLst/>
          </a:prstGeom>
          <a:ln w="0">
            <a:noFill/>
          </a:ln>
        </p:spPr>
      </p:pic>
      <p:pic>
        <p:nvPicPr>
          <p:cNvPr id="62" name="Imagem 26" descr=""/>
          <p:cNvPicPr/>
          <p:nvPr/>
        </p:nvPicPr>
        <p:blipFill>
          <a:blip r:embed="rId6"/>
          <a:stretch/>
        </p:blipFill>
        <p:spPr>
          <a:xfrm>
            <a:off x="1725480" y="1836720"/>
            <a:ext cx="10007640" cy="24764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2"/>
          <p:cNvSpPr/>
          <p:nvPr/>
        </p:nvSpPr>
        <p:spPr>
          <a:xfrm>
            <a:off x="31297680" y="0"/>
            <a:ext cx="1176120" cy="39668400"/>
          </a:xfrm>
          <a:prstGeom prst="rect">
            <a:avLst/>
          </a:prstGeom>
          <a:solidFill>
            <a:srgbClr val="00b6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14"/>
          <p:cNvSpPr/>
          <p:nvPr/>
        </p:nvSpPr>
        <p:spPr>
          <a:xfrm>
            <a:off x="92160" y="38492280"/>
            <a:ext cx="31606920" cy="1176120"/>
          </a:xfrm>
          <a:prstGeom prst="rect">
            <a:avLst/>
          </a:prstGeom>
          <a:solidFill>
            <a:srgbClr val="00b6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8T17:19:27Z</dcterms:created>
  <dc:creator>Ceuclar</dc:creator>
  <dc:description/>
  <dc:language>en-US</dc:language>
  <cp:lastModifiedBy>Brendon Ayslan Wiermann de Medeiros</cp:lastModifiedBy>
  <dcterms:modified xsi:type="dcterms:W3CDTF">2019-04-01T20:03:33Z</dcterms:modified>
  <cp:revision>18</cp:revision>
  <dc:subject/>
  <dc:title>Slide 1</dc:title>
</cp:coreProperties>
</file>