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3825" cy="360029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1F38-DC71-4A8C-BF71-539C82ECF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2603016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560" y="21680280"/>
            <a:ext cx="2603016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AAC6-CF10-4DF2-A055-407BBEE97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622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560" y="2168028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622560" y="2168028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3031-A86D-486E-89FC-E306B862C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85480" y="1039824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86400" y="1039824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560" y="2168028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85480" y="2168028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86400" y="21680280"/>
            <a:ext cx="838152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C56E-A000-498B-B0E0-F4C357155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560" y="10398240"/>
            <a:ext cx="26030160" cy="21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7E59-0C06-4223-A152-0871A336B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2603016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737D-A638-4AC2-878E-3A16E002E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1270260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622560" y="10398240"/>
            <a:ext cx="1270260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9716-5880-4666-B2A2-7729587DA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81A3-DFA9-413F-8708-85DF16851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560" y="1400040"/>
            <a:ext cx="26030160" cy="44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E339-8BFB-479E-8DD2-95CF5890F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622560" y="10398240"/>
            <a:ext cx="1270260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560" y="2168028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F4F9-5DCB-4E17-85A6-4E8647BC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1270260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622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622560" y="2168028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3F3D-A440-4F85-8BE6-F74D53019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622560" y="10398240"/>
            <a:ext cx="1270260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560" y="21680280"/>
            <a:ext cx="26030160" cy="1030284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5978-F02F-4C7F-9D4C-71E91D3D7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560" y="1400040"/>
            <a:ext cx="26030160" cy="960120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560" y="10398240"/>
            <a:ext cx="26030160" cy="2159928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rmAutofit/>
          </a:bodyPr>
          <a:p>
            <a:pPr marL="343080" indent="0">
              <a:spcBef>
                <a:spcPts val="35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5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26"/>
          <p:cNvSpPr/>
          <p:nvPr/>
        </p:nvSpPr>
        <p:spPr>
          <a:xfrm>
            <a:off x="2284560" y="32801040"/>
            <a:ext cx="63738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Box 1027"/>
          <p:cNvSpPr/>
          <p:nvPr/>
        </p:nvSpPr>
        <p:spPr>
          <a:xfrm>
            <a:off x="10468080" y="32801040"/>
            <a:ext cx="96663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1944160" y="32801040"/>
            <a:ext cx="6370560" cy="2401920"/>
          </a:xfrm>
          <a:prstGeom prst="rect">
            <a:avLst/>
          </a:prstGeom>
          <a:noFill/>
          <a:ln w="0">
            <a:noFill/>
          </a:ln>
        </p:spPr>
        <p:txBody>
          <a:bodyPr lIns="415440" rIns="415440" tIns="207720" bIns="20772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52142-3014-4D07-BB1A-C6725C3C54B9}" type="slidenum">
              <a:rPr b="0" lang="pt-BR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072"/>
          <p:cNvSpPr/>
          <p:nvPr/>
        </p:nvSpPr>
        <p:spPr>
          <a:xfrm>
            <a:off x="841320" y="1079640"/>
            <a:ext cx="28845000" cy="33916680"/>
          </a:xfrm>
          <a:prstGeom prst="rect">
            <a:avLst/>
          </a:prstGeom>
          <a:noFill/>
          <a:ln cap="sq" w="165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Box 3073"/>
          <p:cNvSpPr/>
          <p:nvPr/>
        </p:nvSpPr>
        <p:spPr>
          <a:xfrm>
            <a:off x="4446720" y="9720360"/>
            <a:ext cx="757368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Box 3074"/>
          <p:cNvSpPr/>
          <p:nvPr/>
        </p:nvSpPr>
        <p:spPr>
          <a:xfrm>
            <a:off x="19550160" y="18434160"/>
            <a:ext cx="627372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Box 3075"/>
          <p:cNvSpPr/>
          <p:nvPr/>
        </p:nvSpPr>
        <p:spPr>
          <a:xfrm>
            <a:off x="2303640" y="21890160"/>
            <a:ext cx="1138068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TERIAL E MÉTO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Box 3076"/>
          <p:cNvSpPr/>
          <p:nvPr/>
        </p:nvSpPr>
        <p:spPr>
          <a:xfrm>
            <a:off x="11614320" y="216424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Box 3077"/>
          <p:cNvSpPr/>
          <p:nvPr/>
        </p:nvSpPr>
        <p:spPr>
          <a:xfrm>
            <a:off x="15836760" y="28258920"/>
            <a:ext cx="136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30240"/>
                <a:tab algn="l" pos="2747880"/>
                <a:tab algn="l" pos="3665520"/>
                <a:tab algn="l" pos="4583160"/>
                <a:tab algn="l" pos="5500800"/>
                <a:tab algn="l" pos="6418440"/>
                <a:tab algn="l" pos="7335720"/>
                <a:tab algn="l" pos="8253360"/>
                <a:tab algn="l" pos="9171000"/>
                <a:tab algn="l" pos="10093320"/>
                <a:tab algn="l" pos="10131480"/>
                <a:tab algn="l" pos="10855440"/>
                <a:tab algn="l" pos="11579400"/>
                <a:tab algn="l" pos="12303000"/>
                <a:tab algn="l" pos="13030200"/>
                <a:tab algn="l" pos="13476240"/>
                <a:tab algn="l" pos="134780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Box 3078"/>
          <p:cNvSpPr/>
          <p:nvPr/>
        </p:nvSpPr>
        <p:spPr>
          <a:xfrm>
            <a:off x="26166600" y="13393800"/>
            <a:ext cx="328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Box 3079"/>
          <p:cNvSpPr/>
          <p:nvPr/>
        </p:nvSpPr>
        <p:spPr>
          <a:xfrm>
            <a:off x="17826120" y="10514160"/>
            <a:ext cx="1032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Box 3080"/>
          <p:cNvSpPr/>
          <p:nvPr/>
        </p:nvSpPr>
        <p:spPr>
          <a:xfrm>
            <a:off x="19112040" y="2034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Box 3081"/>
          <p:cNvSpPr/>
          <p:nvPr/>
        </p:nvSpPr>
        <p:spPr>
          <a:xfrm>
            <a:off x="23488560" y="23834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3082"/>
          <p:cNvSpPr/>
          <p:nvPr/>
        </p:nvSpPr>
        <p:spPr>
          <a:xfrm>
            <a:off x="21958200" y="24555600"/>
            <a:ext cx="23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3083"/>
          <p:cNvSpPr/>
          <p:nvPr/>
        </p:nvSpPr>
        <p:spPr>
          <a:xfrm>
            <a:off x="22248720" y="2469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Box 3084"/>
          <p:cNvSpPr/>
          <p:nvPr/>
        </p:nvSpPr>
        <p:spPr>
          <a:xfrm>
            <a:off x="22034520" y="2563488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Box 3085"/>
          <p:cNvSpPr/>
          <p:nvPr/>
        </p:nvSpPr>
        <p:spPr>
          <a:xfrm>
            <a:off x="16984800" y="18980280"/>
            <a:ext cx="1231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Box 3086"/>
          <p:cNvSpPr/>
          <p:nvPr/>
        </p:nvSpPr>
        <p:spPr>
          <a:xfrm>
            <a:off x="20504160" y="35212320"/>
            <a:ext cx="29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087"/>
          <p:cNvSpPr/>
          <p:nvPr/>
        </p:nvSpPr>
        <p:spPr>
          <a:xfrm>
            <a:off x="20121480" y="14041440"/>
            <a:ext cx="23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Box 3088"/>
          <p:cNvSpPr/>
          <p:nvPr/>
        </p:nvSpPr>
        <p:spPr>
          <a:xfrm>
            <a:off x="18821520" y="123127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3089"/>
          <p:cNvSpPr/>
          <p:nvPr/>
        </p:nvSpPr>
        <p:spPr>
          <a:xfrm>
            <a:off x="16297200" y="11809440"/>
            <a:ext cx="145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3090"/>
          <p:cNvSpPr/>
          <p:nvPr/>
        </p:nvSpPr>
        <p:spPr>
          <a:xfrm>
            <a:off x="16449840" y="12025440"/>
            <a:ext cx="107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3091"/>
          <p:cNvSpPr/>
          <p:nvPr/>
        </p:nvSpPr>
        <p:spPr>
          <a:xfrm>
            <a:off x="16525800" y="1180944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3092"/>
          <p:cNvSpPr/>
          <p:nvPr/>
        </p:nvSpPr>
        <p:spPr>
          <a:xfrm>
            <a:off x="16297200" y="13033440"/>
            <a:ext cx="84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3093"/>
          <p:cNvSpPr/>
          <p:nvPr/>
        </p:nvSpPr>
        <p:spPr>
          <a:xfrm>
            <a:off x="15760800" y="11953800"/>
            <a:ext cx="16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3094"/>
          <p:cNvSpPr/>
          <p:nvPr/>
        </p:nvSpPr>
        <p:spPr>
          <a:xfrm>
            <a:off x="16602120" y="12457080"/>
            <a:ext cx="23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3095"/>
          <p:cNvSpPr/>
          <p:nvPr/>
        </p:nvSpPr>
        <p:spPr>
          <a:xfrm>
            <a:off x="15760800" y="120981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3096"/>
          <p:cNvSpPr/>
          <p:nvPr/>
        </p:nvSpPr>
        <p:spPr>
          <a:xfrm>
            <a:off x="15760800" y="1324944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3097"/>
          <p:cNvSpPr/>
          <p:nvPr/>
        </p:nvSpPr>
        <p:spPr>
          <a:xfrm>
            <a:off x="3060720" y="4896000"/>
            <a:ext cx="2440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TÍTULO DO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nserir aqui o nome dos autores, em Fonte Arial 10, centralizado, indicando com um asterisco o autor principal. Ex. Manoel. F. Soares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(1,*)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, Luiz M. B. Cunha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e Joaquim A. F. Ferreira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0" i="1" lang="pt-BR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niversidade Federal dos Vales do Jequitinhonha e Mucuri – UFVJM, Diamantina-MG (Arial 9, alinhado à direita, itálic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0" i="1" lang="pt-BR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niversidade Federal de Goiás – UFG, Goiânia-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3098"/>
          <p:cNvSpPr/>
          <p:nvPr/>
        </p:nvSpPr>
        <p:spPr>
          <a:xfrm>
            <a:off x="4522680" y="16111440"/>
            <a:ext cx="757404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OBJETIVO(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099"/>
          <p:cNvSpPr/>
          <p:nvPr/>
        </p:nvSpPr>
        <p:spPr>
          <a:xfrm>
            <a:off x="1224000" y="18865800"/>
            <a:ext cx="13160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30240"/>
                <a:tab algn="l" pos="2747880"/>
                <a:tab algn="l" pos="3665520"/>
                <a:tab algn="l" pos="4583160"/>
                <a:tab algn="l" pos="5500800"/>
                <a:tab algn="l" pos="6418440"/>
                <a:tab algn="l" pos="7335720"/>
                <a:tab algn="l" pos="8253360"/>
                <a:tab algn="l" pos="9171000"/>
                <a:tab algn="l" pos="10093320"/>
                <a:tab algn="l" pos="10131480"/>
                <a:tab algn="l" pos="10855440"/>
                <a:tab algn="l" pos="11579400"/>
                <a:tab algn="l" pos="12303000"/>
                <a:tab algn="l" pos="130302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3100"/>
          <p:cNvSpPr/>
          <p:nvPr/>
        </p:nvSpPr>
        <p:spPr>
          <a:xfrm>
            <a:off x="1530360" y="23475960"/>
            <a:ext cx="133891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3101"/>
          <p:cNvSpPr/>
          <p:nvPr/>
        </p:nvSpPr>
        <p:spPr>
          <a:xfrm>
            <a:off x="15836760" y="17426160"/>
            <a:ext cx="129304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3102"/>
          <p:cNvSpPr/>
          <p:nvPr/>
        </p:nvSpPr>
        <p:spPr>
          <a:xfrm>
            <a:off x="18218160" y="9575640"/>
            <a:ext cx="757404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S E DISCUSS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3103"/>
          <p:cNvSpPr/>
          <p:nvPr/>
        </p:nvSpPr>
        <p:spPr>
          <a:xfrm>
            <a:off x="15836760" y="26787600"/>
            <a:ext cx="1300824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3104"/>
          <p:cNvSpPr/>
          <p:nvPr/>
        </p:nvSpPr>
        <p:spPr>
          <a:xfrm>
            <a:off x="1454040" y="33088320"/>
            <a:ext cx="113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pt-BR" sz="4000" spc="-1" strike="noStrike">
                <a:solidFill>
                  <a:srgbClr val="0000ff"/>
                </a:solidFill>
                <a:latin typeface="Arial"/>
              </a:rPr>
              <a:t>APOIO: FAPEMIG, CAPES, CNPq ou Outras …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3105"/>
          <p:cNvSpPr/>
          <p:nvPr/>
        </p:nvSpPr>
        <p:spPr>
          <a:xfrm>
            <a:off x="20610360" y="3057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3106"/>
          <p:cNvSpPr/>
          <p:nvPr/>
        </p:nvSpPr>
        <p:spPr>
          <a:xfrm>
            <a:off x="16272000" y="25631640"/>
            <a:ext cx="11664720" cy="628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FERÊNCIAS  BIBLIOGRÁF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3107"/>
          <p:cNvSpPr/>
          <p:nvPr/>
        </p:nvSpPr>
        <p:spPr>
          <a:xfrm>
            <a:off x="7156440" y="2519280"/>
            <a:ext cx="1525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 Congresso Nacional em Educação – CONED 201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escola e suas múltiplas interfa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Imagem 2" descr="Logomarca UFVJM 05"/>
          <p:cNvPicPr/>
          <p:nvPr/>
        </p:nvPicPr>
        <p:blipFill>
          <a:blip r:embed="rId1"/>
          <a:stretch/>
        </p:blipFill>
        <p:spPr>
          <a:xfrm>
            <a:off x="1665360" y="1665360"/>
            <a:ext cx="3916440" cy="3427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logo_ppged_aprovação"/>
          <p:cNvPicPr/>
          <p:nvPr/>
        </p:nvPicPr>
        <p:blipFill>
          <a:blip r:embed="rId2"/>
          <a:stretch/>
        </p:blipFill>
        <p:spPr>
          <a:xfrm>
            <a:off x="22682160" y="1800360"/>
            <a:ext cx="6699240" cy="204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11:19:16Z</dcterms:created>
  <dc:creator>Anderson e Oneida</dc:creator>
  <dc:description/>
  <dc:language>en-US</dc:language>
  <cp:lastModifiedBy>arfonseca</cp:lastModifiedBy>
  <cp:lastPrinted>2001-09-13T08:39:22Z</cp:lastPrinted>
  <dcterms:modified xsi:type="dcterms:W3CDTF">2017-07-03T17:10:55Z</dcterms:modified>
  <cp:revision>156</cp:revision>
  <dc:subject/>
  <dc:title>Slide sem títu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6-10.1.0.5672</vt:lpwstr>
  </property>
</Properties>
</file>