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404050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2142720" y="685440"/>
            <a:ext cx="257004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C89B37-20FE-44E2-A6F7-601D2576600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B31E41-DC1F-4A56-A24C-75586E33ACF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063B9-E1EA-48F4-891E-E0468CBA9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8E3B-D016-4CEB-A146-794615F57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25DB-5F01-43D5-B8EE-1E6F97157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F75B-5867-4112-B333-D071B47197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0C997-9D58-4780-9DEA-E4BC131150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D007-8BAB-4416-85AF-787C21A83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92BC-F766-492D-B870-CADC1F92F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4F33-9FC6-4655-B554-781EAAF9B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9081-E5EE-4C29-B093-ABE7681C9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6ED8-6180-41F1-996C-C06C3E360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0393-2BAF-48FF-B4DC-1845E1FE4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346A-721F-40DF-A835-B45F9D638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70CA5B-7211-4ADF-AB7D-A91DDFA44753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2" descr="Texto&#10;&#10;Descrição gerada automaticamente"/>
          <p:cNvPicPr/>
          <p:nvPr/>
        </p:nvPicPr>
        <p:blipFill>
          <a:blip r:embed="rId1"/>
          <a:srcRect l="0" t="0" r="0" b="59908"/>
          <a:stretch/>
        </p:blipFill>
        <p:spPr>
          <a:xfrm>
            <a:off x="65160" y="1440"/>
            <a:ext cx="32421600" cy="9190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"/>
          <p:cNvSpPr/>
          <p:nvPr/>
        </p:nvSpPr>
        <p:spPr>
          <a:xfrm>
            <a:off x="0" y="7140600"/>
            <a:ext cx="3240396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</a:tabLst>
            </a:pPr>
            <a:r>
              <a:rPr b="1" lang="pt-BR" sz="5900" spc="-1" strike="noStrike">
                <a:solidFill>
                  <a:srgbClr val="000000"/>
                </a:solidFill>
                <a:latin typeface="Arial"/>
                <a:ea typeface="Geneva"/>
              </a:rPr>
              <a:t>Título do trabalho Arial, negrito, corpo 60 pt</a:t>
            </a:r>
            <a:endParaRPr b="0" lang="en-US" sz="5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2379600" y="9031320"/>
            <a:ext cx="2754468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  <a:ea typeface="Geneva"/>
              </a:rPr>
              <a:t>Nomes dos autores: arial, negrito, corpo 40p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  <a:ea typeface="Geneva"/>
              </a:rPr>
              <a:t>Instituições; unidade acadêmica e endereço eletrônico: arial, regular, corpo 30p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204920" y="17237160"/>
            <a:ext cx="14400360" cy="71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Geneva"/>
              </a:rPr>
              <a:t>METODOLOGI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Corpo do texto Arial regular tamanho 32pt, podendo ser reduzido para até 24pt, caso a quantidade de texto ultrapasse o espaço delimitado. .........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6916400" y="31472280"/>
            <a:ext cx="14400360" cy="58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Geneva"/>
              </a:rPr>
              <a:t>CONCLUSÃO/CONSIDERAÇÕES FINAI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6857720" y="37376280"/>
            <a:ext cx="14400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Geneva"/>
              </a:rPr>
              <a:t>REFERÊNCIAS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204920" y="24606360"/>
            <a:ext cx="14400360" cy="10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Geneva"/>
              </a:rPr>
              <a:t>RESULTADOS E DISCUSSÃ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Corpo do texto Arial regular tamanho 32pt, podendo ser reduzido para até 24pt, caso a quantidade de texto ultrapasse o espaço delimitado. 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46240" y="35471160"/>
          <a:ext cx="14319360" cy="4656240"/>
        </p:xfrm>
        <a:graphic>
          <a:graphicData uri="http://schemas.openxmlformats.org/drawingml/2006/table">
            <a:tbl>
              <a:tblPr/>
              <a:tblGrid>
                <a:gridCol w="2863800"/>
                <a:gridCol w="2863800"/>
                <a:gridCol w="2863800"/>
                <a:gridCol w="2863800"/>
                <a:gridCol w="2864160"/>
              </a:tblGrid>
              <a:tr h="93168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na 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na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na 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na 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na 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</a:tr>
              <a:tr h="93204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</a:tr>
              <a:tr h="93204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Picture 48" descr=""/>
          <p:cNvPicPr/>
          <p:nvPr/>
        </p:nvPicPr>
        <p:blipFill>
          <a:blip r:embed="rId2"/>
          <a:stretch/>
        </p:blipFill>
        <p:spPr>
          <a:xfrm>
            <a:off x="16929000" y="19329480"/>
            <a:ext cx="14054400" cy="69166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9"/>
          <p:cNvSpPr/>
          <p:nvPr/>
        </p:nvSpPr>
        <p:spPr>
          <a:xfrm>
            <a:off x="1266840" y="10706040"/>
            <a:ext cx="29961000" cy="46080"/>
          </a:xfrm>
          <a:prstGeom prst="rect">
            <a:avLst/>
          </a:prstGeom>
          <a:solidFill>
            <a:srgbClr val="002b7b"/>
          </a:solidFill>
          <a:ln cap="sq"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50"/>
          <p:cNvSpPr/>
          <p:nvPr/>
        </p:nvSpPr>
        <p:spPr>
          <a:xfrm>
            <a:off x="1204920" y="11856960"/>
            <a:ext cx="14400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Geneva"/>
              </a:rPr>
              <a:t>INTRODUÇÃ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Corpo do texto Arial regular tamanho 32pt, podendo ser reduzido para até 24pt, caso a quantidade de texto ultrapasse o espaço delimitado. 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51" descr=""/>
          <p:cNvPicPr/>
          <p:nvPr/>
        </p:nvPicPr>
        <p:blipFill>
          <a:blip r:embed="rId3"/>
          <a:stretch/>
        </p:blipFill>
        <p:spPr>
          <a:xfrm>
            <a:off x="16897320" y="12069720"/>
            <a:ext cx="14398560" cy="5532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2"/>
          <p:cNvSpPr/>
          <p:nvPr/>
        </p:nvSpPr>
        <p:spPr>
          <a:xfrm>
            <a:off x="1146240" y="7078680"/>
            <a:ext cx="4957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Times New Roman"/>
              </a:rPr>
              <a:t>LOGO DA INSTITUIÇÃO DE ORIGEM (OPCIONAL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53"/>
          <p:cNvSpPr/>
          <p:nvPr/>
        </p:nvSpPr>
        <p:spPr>
          <a:xfrm>
            <a:off x="1146240" y="403480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Tabela 1 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Título da tab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onte: Silva (2010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54"/>
          <p:cNvSpPr/>
          <p:nvPr/>
        </p:nvSpPr>
        <p:spPr>
          <a:xfrm>
            <a:off x="16940160" y="1788156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igura 1 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Título da tab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onte: Silva (2010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5"/>
          <p:cNvSpPr/>
          <p:nvPr/>
        </p:nvSpPr>
        <p:spPr>
          <a:xfrm>
            <a:off x="16857720" y="2624616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igura 2 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Título da tab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onte: Silva (2010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56"/>
          <p:cNvSpPr/>
          <p:nvPr/>
        </p:nvSpPr>
        <p:spPr>
          <a:xfrm>
            <a:off x="16857720" y="27070200"/>
            <a:ext cx="1620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21:30:54Z</dcterms:created>
  <dc:creator>UniRV</dc:creator>
  <dc:description/>
  <dc:language>en-US</dc:language>
  <cp:lastModifiedBy>Guilmer Brito Silva</cp:lastModifiedBy>
  <dcterms:modified xsi:type="dcterms:W3CDTF">2024-09-04T17:25:44Z</dcterms:modified>
  <cp:revision>248</cp:revision>
  <dc:subject/>
  <dc:title>Apresentação do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6-10.2.0.5965</vt:lpwstr>
  </property>
</Properties>
</file>