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142720" y="685440"/>
            <a:ext cx="257004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0BB68E-F78A-4DC9-A729-F117E87B15E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0ED251-4434-487C-9B60-083A3ABA78B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13FD-CAF0-48D1-9AA8-4FFAAE0C3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6BCD-ABA0-4230-8977-FD4D7778EA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69CB-BDC0-4A69-9523-4612FB89A48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F5C8-0DE9-4042-B5A5-0B44E23A6F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F7D3-622F-4DD6-A494-1E4B081E8D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1377-4C40-418A-9BEA-6A495F1D1D8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5461-9396-4513-927A-A60CD601670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9D0A-1352-4FCB-924C-92A20B9F816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1755-8CB3-4FCB-AD92-495297606D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F060-F1F8-4B83-9310-1D9C6336E9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AD3D-A060-43A0-B74C-0CD5F712639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B5CCD-E884-4252-9ADD-3571ABF21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3908-CBD7-49C3-B221-88630094F9B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0EF18-B4A9-4F39-8657-087DB85EE9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9D5A1-C3CF-44A7-A832-503510458E8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BE1DD-EA02-43D8-B368-3165CDE4BF2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8429E-DD2D-4105-B8E6-123A404D2EC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A78D7-AEE5-4129-AECA-64BCDEE5DEA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B86C9-8024-4F54-85AA-2D5E8A68FF9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52976-B7E2-4AB7-A6CB-3B9C0292405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01C4D-B346-4E3A-8ED6-8A7EC0D85ED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21254-93AB-49B7-80AE-FDD0F42ADD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38A1E-0F95-4D46-BD49-C15EA45CB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859F-3B22-4129-8E3B-F78872237D1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D9DBE-6D82-426A-AFAE-5BB2D13EDF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DEA39-DF32-4474-A07B-60530E3EFD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7E2ED-35B6-4FAF-893E-034975EACDE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E3EBD-BC1B-48D8-9806-85A7A7169E9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41172-DC85-43BE-8FD5-B0FE2D7ADF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99DA4-A4E0-444B-B47E-7956C039A4C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371B1-F852-4D16-9583-6025BD55E02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F95B5-A791-44AB-8C85-76792DFFCFB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CF7B0-8C7B-4FB1-B183-3B3A05529B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FF2D6-77AD-4214-8C77-D1046E90F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DB0B-F3BC-4B4A-A9C4-B9D53583EFD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0A07D-B9EE-43ED-990D-FE4B9A9ADC7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A10E2-13DD-449A-8D86-9D798C9587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77056-0A74-4F33-B641-3BF02301A04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98EB-605C-40F9-A234-E8BF1717646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447BB-EDA2-4FCD-97BD-DCC812C9EA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3A4B-22C3-4034-B380-1C032B1B91A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34DB-7344-480F-8B67-7536969A5BF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A30F-B724-49DD-B7E5-56E54A6304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07CD9-05AC-412C-B8D0-D0C228C9FDC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CDD8-00DD-495D-9C88-0D68A16157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2529-43D7-44AC-871D-925F0BA4462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6105-F293-460E-B738-AD64318D30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5078D-49D9-4ABA-92ED-CC395434427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8D89-7E39-43B6-B72A-412E0B08ED8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161FD-B50D-446A-848B-726FB946AC2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4CA9-320F-405F-B5AC-23B2F0C803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3842-AFCA-424F-A987-3EDE98704A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BD55-472F-4320-8301-C87B53F013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6310-2203-4770-B3CC-265386FA82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75F1-93E3-4368-9F52-3E2051B496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DD0E-8314-4AE7-95A0-196977CEA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93AE-91B6-41D7-ABD2-E0DF91CFF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8D45-B430-466B-B7F8-0C5BD672E7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2204-84D8-4EF7-8D4A-D5E65723CB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1150-90A6-4979-9F33-876AB11AF6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99A9-7E18-4F31-85A8-378BE98B29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CECE-1AD1-497F-BD9A-AD8FC66116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F5D-E52F-462B-ABD3-DF57200479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EA0-11A6-4233-906F-0F00D572C2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371-1D4F-4969-917F-224287E518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BE1-E3B0-4411-9DC0-C7E3BCAEF2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929-C545-4662-B6A9-5486BEF809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EB44-EBCE-4974-A8B7-B17C6322EE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370-72E4-48B7-830F-7CEF1CC5EC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58B-FB68-470D-B09B-B03D62B978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BC4-838B-42DC-B466-BE5DF40292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A07-2ED0-4257-90B5-3DB732AC05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C49-9E72-4C24-B177-12CAF44C3E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50C-12AB-49BB-90CD-C1BCF58683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F8F-E6DA-4AD0-B90B-98360F6546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9C973-B1D3-4893-BFEC-1D463806F9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07D36-B021-434D-9D14-B752C84577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080CD-6905-43C3-AEF6-AD270D261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7823-A54D-4DB3-8086-0DA6025C1F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B85ED-1A33-4A6B-B183-6D2389FE07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458A3-8639-4E68-A7CD-F8020FF5A1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622C6-A584-442E-A9F3-6F40E07A68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664A7-7695-488C-9ECA-089F75586B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F414-3AF2-471D-93E4-DACF7EF122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A69FC-3321-439C-B105-B2CBE73DC3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6C457-595F-49F6-985B-815A1A1391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5B398-9809-43F3-AC18-BD4A1CB91A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DD905-EF77-4AFF-9DF3-0F99047985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AF9C6-7FAC-47C2-81BD-C117F3F23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8C0D-879E-4311-88BD-B57677CCA3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9AAE7-BB6E-47A2-B483-C612138071B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4B782-4C3F-4FD7-8D53-3876048DE4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8876F-D081-417D-AEFB-F6F3EE077B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3DA70-EF77-49E6-ADB5-07D317DBBB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E1521-9D8F-4857-9E19-C6401E8BB8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6A3E4-94BE-4FCB-BFD8-ADE39717C39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455B8-3ACF-45D3-BE88-578B352EC24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B6310-6367-4B15-B2DA-6FE50AB7FD4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A170A-396C-4519-90B3-85A68E4FAD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137B4-693A-4F1E-94F2-D407E8A5D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2454-998F-4875-AB81-7CD5133043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0B9D1-F2B8-48B5-9649-8D8F123F8A3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D6F6-8ACA-45D5-A5D0-B08D0E06096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83AC-4769-4DBE-99F9-342A1D7BF9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FD06-1769-46CD-81BA-F8B85E2DE3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DBA2-1EFB-4484-AA2C-3AD4B829EF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8E4D-9212-45D5-9E86-3ACB6D18A4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C55E-4627-4B4C-B145-E951578513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3D18-1009-4D19-A5EF-6C411F9ED7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B0A6-3C8E-462F-8828-CF3D7E179D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B1F4-550C-4D36-B05C-B3E234B19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B7F2-7817-45B2-ACB5-57B498B3CC8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8765-3D3F-482A-B031-42E89B5018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9B63-DEF0-41F0-8510-C5083B2A55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FB90-CF51-4AF8-B61B-D0388092771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5F03B-8273-47A1-8978-FE8B7714B86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8A6E5-9EEF-45D5-8A2D-2DE6A491C13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31D12D-51CE-4AC8-83CE-70A6E90818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51117-215F-4F53-8E7E-D57D322746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019114-2189-4BE0-BE75-8542C32A37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00CD1D-BC22-4F85-8978-90ECB0865FE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7BBF7-DD43-4455-90C1-F2671080F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7D87-ACC1-4281-8163-39C7DADAB7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8A818-8E04-4441-84EB-6B22B3C98E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264BE-9C34-4501-A82F-C7A2A3115AB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15E19-C395-4162-A75F-A6FEED35002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E3CF4-E09B-49A2-94E0-5D2AA8242B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3FE73-AFBE-4986-B749-92C9B71106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F3397-69DD-4B04-9E00-4B76DBAAEF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8B625-EA18-4312-8E6A-83F97A0F780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38990-FDC1-4405-BFE1-683F700527B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4082E-4302-4382-BF93-83B2AC2615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D5539-B61E-48CC-9085-237E5C6F8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1A58-8B52-4CCB-A88E-76922101CE8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80D83-64E0-407F-89EA-026776768C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D63E3-298E-44F1-BE29-168AC5C046E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612C9-919E-49CE-A529-62B3B536E0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C5729-2E31-4F7B-BD2A-580ACCAF3D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742BB-ED0E-4F1D-93AC-D07771D83B0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C8322-CA26-4977-8707-F1BFB6ADA1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C5F27-1209-4C5A-A354-11ACFEB333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BF09-ED4F-4E4A-8F50-B12F299B95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5351-AE29-4519-A8DC-E59C57BF00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837E-2424-4F02-986E-7E8326B8A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9D67C6-C0A2-4C3F-8982-000F2BF8C13B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391844-AD82-43D6-8CF5-5C529B08F0D0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E896F8-A256-4140-8D3A-7F7405A75581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236C24-8897-4A87-8A18-58EE7BBF8A19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2698CC-A82C-4664-A069-37F7C63AE0CB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99BD3F-5B2C-4ECE-BC4A-D968D046C7AB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BB882E-5F9F-4350-8BC2-E24A70F351BF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E2D194-D5C8-4EE5-AB35-AD69FF06016F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C7D0A0-2055-4D40-99AB-2D248AF7369B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3624CE-BE2A-4916-A43D-7FE932502739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6B450A-ECE2-428C-A493-AA968B4E9BFA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C070E3-F2A3-405F-AA87-D239A9B85F55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0" y="7140600"/>
            <a:ext cx="3240396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</a:tabLst>
            </a:pPr>
            <a:r>
              <a:rPr b="1" lang="pt-BR" sz="5900" spc="-1" strike="noStrike">
                <a:solidFill>
                  <a:srgbClr val="000000"/>
                </a:solidFill>
                <a:latin typeface="Arial"/>
                <a:ea typeface="Geneva"/>
              </a:rPr>
              <a:t>Título do trabalho Arial, negrito, corpo 60 pt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2379600" y="9031320"/>
            <a:ext cx="275446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  <a:ea typeface="Geneva"/>
              </a:rPr>
              <a:t>Nomes dos autores: arial, negrito, corpo 40p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  <a:ea typeface="Geneva"/>
              </a:rPr>
              <a:t>Instituições; unidade acadêmica e endereço eletrônico: arial, regular, corpo 30p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1204920" y="17237160"/>
            <a:ext cx="14400360" cy="71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METODOLOGI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Corpo do texto Arial regular tamanho 32pt, podendo ser reduzido para até 24pt, caso a quantidade de texto ultrapasse o espaço delimitado. 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6916400" y="31472280"/>
            <a:ext cx="1440036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CONCLUSÃO/CONSIDERAÇÕES FINAI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6857720" y="37376280"/>
            <a:ext cx="14400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REFERÊNCIAS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1204920" y="24606360"/>
            <a:ext cx="14400360" cy="10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RESULTADOS E DISCUSSÃ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Corpo do texto Arial regular tamanho 32pt, podendo ser reduzido para até 24pt, caso a quantidade de texto ultrapasse o espaço delimitado. 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46240" y="35471160"/>
          <a:ext cx="14319360" cy="4656240"/>
        </p:xfrm>
        <a:graphic>
          <a:graphicData uri="http://schemas.openxmlformats.org/drawingml/2006/table">
            <a:tbl>
              <a:tblPr/>
              <a:tblGrid>
                <a:gridCol w="2863800"/>
                <a:gridCol w="2863800"/>
                <a:gridCol w="2863800"/>
                <a:gridCol w="2863800"/>
                <a:gridCol w="2864160"/>
              </a:tblGrid>
              <a:tr h="93168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</a:tr>
              <a:tr h="9320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</a:tr>
              <a:tr h="9320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Picture 48" descr=""/>
          <p:cNvPicPr/>
          <p:nvPr/>
        </p:nvPicPr>
        <p:blipFill>
          <a:blip r:embed="rId1"/>
          <a:stretch/>
        </p:blipFill>
        <p:spPr>
          <a:xfrm>
            <a:off x="16929000" y="19329480"/>
            <a:ext cx="14054400" cy="691668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9"/>
          <p:cNvSpPr/>
          <p:nvPr/>
        </p:nvSpPr>
        <p:spPr>
          <a:xfrm>
            <a:off x="1266840" y="10706040"/>
            <a:ext cx="29961000" cy="46080"/>
          </a:xfrm>
          <a:prstGeom prst="rect">
            <a:avLst/>
          </a:prstGeom>
          <a:solidFill>
            <a:srgbClr val="002b7b"/>
          </a:solidFill>
          <a:ln cap="sq"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50"/>
          <p:cNvSpPr/>
          <p:nvPr/>
        </p:nvSpPr>
        <p:spPr>
          <a:xfrm>
            <a:off x="1204920" y="11856960"/>
            <a:ext cx="1440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INTRODUÇÃ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Corpo do texto Arial regular tamanho 32pt, podendo ser reduzido para até 24pt, caso a quantidade de texto ultrapasse o espaço delimitado. 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51" descr=""/>
          <p:cNvPicPr/>
          <p:nvPr/>
        </p:nvPicPr>
        <p:blipFill>
          <a:blip r:embed="rId2"/>
          <a:stretch/>
        </p:blipFill>
        <p:spPr>
          <a:xfrm>
            <a:off x="16897320" y="12069720"/>
            <a:ext cx="14398560" cy="55324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2"/>
          <p:cNvSpPr/>
          <p:nvPr/>
        </p:nvSpPr>
        <p:spPr>
          <a:xfrm>
            <a:off x="26596800" y="7029360"/>
            <a:ext cx="49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LOGO DA INSTITUIÇÃO DE ORIGEM (OPCIONAL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53"/>
          <p:cNvSpPr/>
          <p:nvPr/>
        </p:nvSpPr>
        <p:spPr>
          <a:xfrm>
            <a:off x="1146240" y="403480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abela 1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ítulo da tab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nte: Silva (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16940160" y="178815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igura 1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ítulo da tab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nte: Silva (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16857720" y="262461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igura 2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ítulo da tab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nte: Silva (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56"/>
          <p:cNvSpPr/>
          <p:nvPr/>
        </p:nvSpPr>
        <p:spPr>
          <a:xfrm>
            <a:off x="16857720" y="27070200"/>
            <a:ext cx="1620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Imagem 2" descr="Texto&#10;&#10;Descrição gerada automaticamente"/>
          <p:cNvPicPr/>
          <p:nvPr/>
        </p:nvPicPr>
        <p:blipFill>
          <a:blip r:embed="rId3"/>
          <a:srcRect l="0" t="15079" r="0" b="22189"/>
          <a:stretch/>
        </p:blipFill>
        <p:spPr>
          <a:xfrm>
            <a:off x="0" y="-4680"/>
            <a:ext cx="32403960" cy="686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1:30:54Z</dcterms:created>
  <dc:creator>UniRV</dc:creator>
  <dc:description/>
  <dc:language>en-US</dc:language>
  <cp:lastModifiedBy>Guilmer Brito Silva</cp:lastModifiedBy>
  <dcterms:modified xsi:type="dcterms:W3CDTF">2023-09-18T17:02:21Z</dcterms:modified>
  <cp:revision>246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6-10.2.0.5965</vt:lpwstr>
  </property>
</Properties>
</file>